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24F-C5DB-49F0-96C9-E3AB3442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884-3385-49A1-A623-B94DE559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EBF-A029-4AEA-99E4-CFA4B2DA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514-9477-4350-B20E-2AB31308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ABF-8F87-4339-BA41-62FA7DA7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EE7-C01A-4201-9967-CC0691DC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AD7-3895-45BA-AFF8-756AC7A2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764-93AF-4007-A473-AE3016A2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A8B-D833-4DC5-907B-B3CA0FF5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F26-67D2-4CD3-8AD2-CB93FA3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62D-E9D8-4853-8527-DDAEF5E1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E05-1886-4DCD-89E3-1F710F62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F399-1022-441D-A567-DD1E12B43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eepness_1024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-179280" y="0"/>
            <a:ext cx="743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« От крыльев Ика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до полётов к звёзд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турко татьяна 007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турко татьяна 001"/>
          <p:cNvPicPr/>
          <p:nvPr/>
        </p:nvPicPr>
        <p:blipFill>
          <a:blip r:embed="rId1"/>
          <a:stretch/>
        </p:blipFill>
        <p:spPr>
          <a:xfrm>
            <a:off x="2268360" y="17640"/>
            <a:ext cx="50896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турко татьяна 002"/>
          <p:cNvPicPr/>
          <p:nvPr/>
        </p:nvPicPr>
        <p:blipFill>
          <a:blip r:embed="rId1"/>
          <a:stretch/>
        </p:blipFill>
        <p:spPr>
          <a:xfrm>
            <a:off x="611280" y="404640"/>
            <a:ext cx="810108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турко татьяна 003"/>
          <p:cNvPicPr/>
          <p:nvPr/>
        </p:nvPicPr>
        <p:blipFill>
          <a:blip r:embed="rId1"/>
          <a:stretch/>
        </p:blipFill>
        <p:spPr>
          <a:xfrm>
            <a:off x="539640" y="549360"/>
            <a:ext cx="79567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турко татьяна 004"/>
          <p:cNvPicPr/>
          <p:nvPr/>
        </p:nvPicPr>
        <p:blipFill>
          <a:blip r:embed="rId1"/>
          <a:stretch/>
        </p:blipFill>
        <p:spPr>
          <a:xfrm>
            <a:off x="539640" y="260280"/>
            <a:ext cx="82440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турко татьяна 009"/>
          <p:cNvPicPr/>
          <p:nvPr/>
        </p:nvPicPr>
        <p:blipFill>
          <a:blip r:embed="rId1"/>
          <a:stretch/>
        </p:blipFill>
        <p:spPr>
          <a:xfrm>
            <a:off x="2556000" y="0"/>
            <a:ext cx="44416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турко татьяна 005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турко татьяна 008"/>
          <p:cNvPicPr/>
          <p:nvPr/>
        </p:nvPicPr>
        <p:blipFill>
          <a:blip r:embed="rId1"/>
          <a:stretch/>
        </p:blipFill>
        <p:spPr>
          <a:xfrm>
            <a:off x="2556000" y="260280"/>
            <a:ext cx="41814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1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турко татьяна 006"/>
          <p:cNvPicPr/>
          <p:nvPr/>
        </p:nvPicPr>
        <p:blipFill>
          <a:blip r:embed="rId1"/>
          <a:stretch/>
        </p:blipFill>
        <p:spPr>
          <a:xfrm>
            <a:off x="176364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1:30:02Z</dcterms:created>
  <dc:creator>ученики 8 класса 2009 года</dc:creator>
  <dc:description/>
  <cp:keywords>слайды по истории освоения космоса</cp:keywords>
  <dc:language>en-US</dc:language>
  <cp:lastModifiedBy>1</cp:lastModifiedBy>
  <dcterms:modified xsi:type="dcterms:W3CDTF">2011-04-08T07:19:25Z</dcterms:modified>
  <cp:revision>4</cp:revision>
  <dc:subject>История освоения Космоса</dc:subject>
  <dc:title>Слайды к конференции, посвящённой Дню Космонавтики</dc:title>
</cp:coreProperties>
</file>